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E68-6F92-40B5-93AA-82DF9F06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421-5544-40EE-B1E3-F9D4C89E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8D36D-D212-4667-810E-BFFC208B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E6DA0-4244-420E-B6FA-3A8E8444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60512-F785-426D-90A7-79862040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513E3-7EA7-4EC3-ADEC-E669D329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17D5A-8CDF-4076-A2CC-D6C3476A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97719-E2F6-4358-92A1-9CBF57F0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ED963-34BE-4BD0-8991-A8D34BC2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C82DE-4412-4F39-AE3C-0FE17D6E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08D9C-B01B-494E-B1F4-E284D5FB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2445B-D5A5-4A6F-9C14-2E23EFA3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86F-6735-41EE-9C3A-8919ACDF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6A181-9252-45B1-9052-4094B30F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2B619-1395-4325-9E6F-FCE92EDF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C57E8-3E1C-416D-890B-25896E9D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6612E-8176-4580-9F85-5010C7C3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651A9-F371-4367-B23B-78B092D8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6687E-2226-42A0-8AC4-AC917E95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8F420-C164-4A62-B084-446AF2B5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405CD-6A39-4D91-A138-FB9A874E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8B2C0-4718-4CB1-BEC6-0ECA4981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6E766-4C05-4846-BB3B-88BC3C1B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D55-66B5-4AEC-AD3C-D5B37FF6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64EAF-D904-46D5-9CF0-8031C5C7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00A40-A07F-453D-ACE1-E74C852E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96316-D3F4-416E-B9FA-6FF63EED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300EF-95D7-4972-AD13-2EFC5466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170C3-743E-4ADB-8EF7-65524C69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6D635-8443-47F2-B674-948C595E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B7CEA-6A07-40B2-B35B-BFFAD2F9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1F3E0-F06A-45B5-B6D5-1009E6B9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D9259-A37E-4A47-BF59-483099EE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94F21-5C7A-46A2-8A53-F86237E1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CC76-53A9-4BBD-BD82-07755E6C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07F1F-775F-42DD-91AF-288B70B4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AA25A-C596-47DC-BCD8-76AA21B8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E1ADB-5DE3-461D-B297-1D6BDE68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7FB64-C78A-4B63-B36D-3A2968E7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7C134-C17F-4442-A55C-7A91B17F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36E49-831B-4EFB-BD8F-9FF351A9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D0CAC-5FF0-4EDF-B86F-0463DF49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0034C-EE0B-4D81-9058-A97CD3B2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FD2FE-8351-4BCF-9EA7-C7746F83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15251-15A5-4339-8065-76DD8B44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1259-F87F-461B-8FF6-D011DE89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981E3-B431-4D01-BBDE-817F4649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F6C08-60D6-47F7-98E3-C0F7D271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0A931-6B00-4329-A3FF-6E264DE9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DF53B-43CD-40B4-BCB0-C2812383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2AD52-C223-403A-B5CC-610FE160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6933-0575-44C5-BA01-D2F76BCB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1DEA-2D5B-431A-8D15-B7A86123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3423-DE01-4781-A3C0-E220CFB3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5C02-F8EC-4DBB-A8A1-E2D7E8F7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AA27-EFDD-4FF7-BC99-42C1C932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B9D-B9AB-441F-9F6B-AA92494C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0413-4D43-4CE0-A477-3376F7B2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9AE2-F246-4418-A8C8-4FBE6F7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B936-96F2-4F78-A332-20A84916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88FF-25B3-4420-9E6C-2B87CC3B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23D6-6CEB-4A51-88DF-75C439F4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58721-3204-4327-A502-696D2E92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3BB3-FA5E-4D30-AEE8-45E6750C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EA25-7EFE-4717-855B-2E126A6C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6CA5A-5BB5-4041-946F-41B9CF08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10E52-D8D2-4CCB-A0AA-70CA46AE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B95-2CD8-4A39-9B50-DD57C273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4EB0-8012-4011-A21A-AB17FB67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F7E0-9FA8-444D-BF18-C3A7C814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F46E-C6CD-480F-BDCF-DAF103FF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05DB-5458-4600-B29C-0AF9F189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658C-8835-46DF-B3D6-DC719485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549A-6DED-41DD-9443-37604EE4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1A9F-ECF5-4651-8044-E404B852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69F8-51B8-40E0-9856-4719EDEF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9D97-A232-43B5-AEF5-496F63FB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47DC3-218E-4E51-82DA-AA1DD763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61A-FEA3-485D-8D92-3FC9A058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F7BAC-8FA1-4A41-9B08-2DEDA9B3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01E94-ED67-406C-BA38-06BF6EBA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1CA5-06F1-4229-B3B3-16E90C62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B088-659F-4CBB-9AE3-74B3E874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F9A00-1EBA-4AF2-A6C8-D2B4803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EC5D5-79BC-4F12-964A-C0F44424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0888-224D-4A8E-95E8-EA8A5393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A8F8-0099-45CB-AE81-749DF944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5A658-8EC6-4ADA-ABAC-9791E623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1DBFE-D700-4E10-9FF8-CA31EE92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140-1118-4B84-B4AD-820B33B5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6173-7B39-4C8B-A2ED-D92C7C19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46246-9ABB-4696-8F77-96B60F54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E02B6-A717-42DD-A19A-F072D8E1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4E3DB-65B3-4ABD-A110-289B758C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14CBF-3B96-4408-9215-B2BB95D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92367-566C-421A-84D1-E9923985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37BC3-9C27-4295-B896-8C87F4B3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8009B-22E5-4EF1-A1EA-74AEF041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80BC4-8443-4E8F-B963-60329330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9E01C-6850-4D57-8FFB-FCA4106E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B15-374D-4150-A65D-F57C64CC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0E3A3-F5E4-427F-A677-2E1BA616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C0EE5-873C-4E50-A383-F054F6B6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5711C-2981-49B1-B499-96D7D4E3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5211B-BF37-4CA5-A7FE-0A631FF5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55DC-AE2D-426E-BB78-AAD5CD45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A696D-B695-4B77-B989-C3A19B46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DA649-0947-41EA-A955-5EC61030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5F2DC-8387-4F1A-9FC3-31F6DE69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9CDAB-CFBA-45D9-8147-7AD695FC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15E7B-34E8-46B6-B2E5-40D2F4FE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DE0-5CBE-4B5C-B09E-F4CEA35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8A892-3899-4388-8538-B736BD2D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FC213-22EC-43C0-89CC-2727EB26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2F060-2D54-441B-AB58-04760C41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73ECE-99BB-4672-8723-DDDE489F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FB2AA-F9AF-4A47-A458-143CD2DB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6FE32-AAE0-4DD9-B95D-489CCC92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09EB4-CADC-488F-9BF8-B401DA71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10662-8091-48CF-AEEE-4B7932B4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DA1AD-F0D6-47F0-BC1D-6C56DB10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FA254-E192-4C2B-BBE0-522B1A60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C95-E710-49B2-9AC2-B1289E3A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1FA70-7236-4A18-8A07-E29E4C19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C067F-FE42-4C7E-ABEB-A579B771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39F7C-2358-4FE0-911F-089E455B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5B25E-32B3-4FE0-A311-FC752B48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F87DF-2BF7-4CD8-8E14-0459197D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788DC-B1E7-47C5-9550-5514CB6C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A93DD-B070-484A-910C-2FD5F6D7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0C4A4-9C8B-4032-9598-0FFB5688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FB515-2659-4BE6-8E0E-71484F6F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DD4E9-C895-4A38-9B0B-CD4F0C54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595-F322-4CE9-AD86-3E9D41F7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450EC-7363-4162-B983-63A258D5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9162D-CDC6-446A-BAFD-C033E31F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2FA2E-0E31-48B1-9541-5A5A509F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51C78-5C70-49D5-B5C5-407FBF6C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7669D-3E23-45B3-929E-044DA69A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9B561-8043-452A-9A20-9C46968F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60CF5-F329-466D-A19A-63A1CE6B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2AA34-958F-4D9E-BC08-0E00C1A0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CD385-772B-4DE2-8D80-E323CC26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16B39-A4D1-4747-813D-FFD1D3CC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300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4301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4301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4301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4301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4301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4301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5667-0705-4B55-B5DD-A8E1563A044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ECB2-0405-4890-85A5-3442E885306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03EA-8050-49D1-8EA6-17AE570BCB0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C94E-0B44-414B-B550-3F2570DA69A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403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403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4403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4403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403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403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403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FE8E-0B4C-41D3-865B-25C37DC7F66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7BEE-D605-4F1A-ABB8-42B976F9665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785E-3325-4E93-AE7E-77144E09499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162E-45B1-439D-828F-DD4DBB1210A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24A7-116B-47CB-A779-85E2A2E0BF5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74EE-1EAA-42A1-8C1D-E81136A499A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4DAF-D2EF-4975-8813-C81F0F5B353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BFCE-1D52-411A-8C59-C66722ABB3E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258920" y="1700280"/>
            <a:ext cx="6842160" cy="10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要的是葫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7" name="图片 4" descr=""/>
          <p:cNvPicPr/>
          <p:nvPr/>
        </p:nvPicPr>
        <p:blipFill>
          <a:blip r:embed="rId1"/>
          <a:stretch/>
        </p:blipFill>
        <p:spPr>
          <a:xfrm>
            <a:off x="2273400" y="3141720"/>
            <a:ext cx="481320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1476360" y="126828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棵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谢谢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想念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盯着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言自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邻居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治病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奇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9325080" y="51912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1"/>
          <p:cNvSpPr/>
          <p:nvPr/>
        </p:nvSpPr>
        <p:spPr>
          <a:xfrm>
            <a:off x="5822280" y="189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cccff"/>
                </a:solidFill>
                <a:uFillTx/>
                <a:latin typeface="华文彩云"/>
                <a:ea typeface="华文彩云"/>
              </a:rPr>
              <a:t>摘葫芦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530280" y="1371600"/>
            <a:ext cx="1668240" cy="2160720"/>
            <a:chOff x="530280" y="1371600"/>
            <a:chExt cx="1668240" cy="2160720"/>
          </a:xfrm>
        </p:grpSpPr>
        <p:pic>
          <p:nvPicPr>
            <p:cNvPr id="628" name="图片 3" descr=""/>
            <p:cNvPicPr/>
            <p:nvPr/>
          </p:nvPicPr>
          <p:blipFill>
            <a:blip r:embed="rId1"/>
            <a:srcRect l="15349" t="13743" r="19417" b="10651"/>
            <a:stretch/>
          </p:blipFill>
          <p:spPr>
            <a:xfrm>
              <a:off x="530280" y="1371600"/>
              <a:ext cx="16682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矩形 4"/>
            <p:cNvSpPr/>
            <p:nvPr/>
          </p:nvSpPr>
          <p:spPr>
            <a:xfrm>
              <a:off x="1059480" y="1803600"/>
              <a:ext cx="912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一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棵</a:t>
              </a:r>
              <a:r>
                <a:rPr b="0" i="1" lang="en-US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 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0" name="组合 6"/>
          <p:cNvGrpSpPr/>
          <p:nvPr/>
        </p:nvGrpSpPr>
        <p:grpSpPr>
          <a:xfrm>
            <a:off x="2762280" y="1227240"/>
            <a:ext cx="1668600" cy="2160360"/>
            <a:chOff x="2762280" y="1227240"/>
            <a:chExt cx="1668600" cy="2160360"/>
          </a:xfrm>
        </p:grpSpPr>
        <p:pic>
          <p:nvPicPr>
            <p:cNvPr id="631" name="图片 7" descr=""/>
            <p:cNvPicPr/>
            <p:nvPr/>
          </p:nvPicPr>
          <p:blipFill>
            <a:blip r:embed="rId2"/>
            <a:srcRect l="15349" t="13743" r="19417" b="10651"/>
            <a:stretch/>
          </p:blipFill>
          <p:spPr>
            <a:xfrm>
              <a:off x="2762280" y="1227240"/>
              <a:ext cx="166860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矩形 8"/>
            <p:cNvSpPr/>
            <p:nvPr/>
          </p:nvSpPr>
          <p:spPr>
            <a:xfrm>
              <a:off x="3320640" y="1659240"/>
              <a:ext cx="54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谢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谢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3" name="组合 9"/>
          <p:cNvGrpSpPr/>
          <p:nvPr/>
        </p:nvGrpSpPr>
        <p:grpSpPr>
          <a:xfrm>
            <a:off x="4994280" y="1236600"/>
            <a:ext cx="1670040" cy="2160720"/>
            <a:chOff x="4994280" y="1236600"/>
            <a:chExt cx="1670040" cy="2160720"/>
          </a:xfrm>
        </p:grpSpPr>
        <p:pic>
          <p:nvPicPr>
            <p:cNvPr id="634" name="图片 10" descr=""/>
            <p:cNvPicPr/>
            <p:nvPr/>
          </p:nvPicPr>
          <p:blipFill>
            <a:blip r:embed="rId3"/>
            <a:srcRect l="15349" t="13743" r="19417" b="10651"/>
            <a:stretch/>
          </p:blipFill>
          <p:spPr>
            <a:xfrm>
              <a:off x="4994280" y="1236600"/>
              <a:ext cx="16700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矩形 11"/>
            <p:cNvSpPr/>
            <p:nvPr/>
          </p:nvSpPr>
          <p:spPr>
            <a:xfrm>
              <a:off x="5553360" y="1668600"/>
              <a:ext cx="54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想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念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6" name="组合 12"/>
          <p:cNvGrpSpPr/>
          <p:nvPr/>
        </p:nvGrpSpPr>
        <p:grpSpPr>
          <a:xfrm>
            <a:off x="6794640" y="1225440"/>
            <a:ext cx="1670040" cy="2160720"/>
            <a:chOff x="6794640" y="1225440"/>
            <a:chExt cx="1670040" cy="2160720"/>
          </a:xfrm>
        </p:grpSpPr>
        <p:pic>
          <p:nvPicPr>
            <p:cNvPr id="637" name="图片 13" descr=""/>
            <p:cNvPicPr/>
            <p:nvPr/>
          </p:nvPicPr>
          <p:blipFill>
            <a:blip r:embed="rId4"/>
            <a:srcRect l="15349" t="13743" r="19417" b="10651"/>
            <a:stretch/>
          </p:blipFill>
          <p:spPr>
            <a:xfrm>
              <a:off x="6794640" y="1225440"/>
              <a:ext cx="16700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矩形 14"/>
            <p:cNvSpPr/>
            <p:nvPr/>
          </p:nvSpPr>
          <p:spPr>
            <a:xfrm>
              <a:off x="7324560" y="1657440"/>
              <a:ext cx="912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盯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着</a:t>
              </a:r>
              <a:r>
                <a:rPr b="0" i="1" lang="en-US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 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9" name="组合 15"/>
          <p:cNvGrpSpPr/>
          <p:nvPr/>
        </p:nvGrpSpPr>
        <p:grpSpPr>
          <a:xfrm>
            <a:off x="6048360" y="3532320"/>
            <a:ext cx="2230560" cy="3248280"/>
            <a:chOff x="6048360" y="3532320"/>
            <a:chExt cx="2230560" cy="3248280"/>
          </a:xfrm>
        </p:grpSpPr>
        <p:pic>
          <p:nvPicPr>
            <p:cNvPr id="640" name="图片 16" descr=""/>
            <p:cNvPicPr/>
            <p:nvPr/>
          </p:nvPicPr>
          <p:blipFill>
            <a:blip r:embed="rId5"/>
            <a:srcRect l="15349" t="13743" r="19417" b="10651"/>
            <a:stretch/>
          </p:blipFill>
          <p:spPr>
            <a:xfrm>
              <a:off x="6048360" y="3532320"/>
              <a:ext cx="2230560" cy="26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矩形 17"/>
            <p:cNvSpPr/>
            <p:nvPr/>
          </p:nvSpPr>
          <p:spPr>
            <a:xfrm>
              <a:off x="6676560" y="4493160"/>
              <a:ext cx="9122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自言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自语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 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2" name="组合 18"/>
          <p:cNvGrpSpPr/>
          <p:nvPr/>
        </p:nvGrpSpPr>
        <p:grpSpPr>
          <a:xfrm>
            <a:off x="217440" y="3909960"/>
            <a:ext cx="1670040" cy="2719440"/>
            <a:chOff x="217440" y="3909960"/>
            <a:chExt cx="1670040" cy="2719440"/>
          </a:xfrm>
        </p:grpSpPr>
        <p:pic>
          <p:nvPicPr>
            <p:cNvPr id="643" name="图片 19" descr=""/>
            <p:cNvPicPr/>
            <p:nvPr/>
          </p:nvPicPr>
          <p:blipFill>
            <a:blip r:embed="rId6"/>
            <a:srcRect l="15349" t="13743" r="19417" b="10651"/>
            <a:stretch/>
          </p:blipFill>
          <p:spPr>
            <a:xfrm>
              <a:off x="217440" y="3909960"/>
              <a:ext cx="167004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矩形 20"/>
            <p:cNvSpPr/>
            <p:nvPr/>
          </p:nvSpPr>
          <p:spPr>
            <a:xfrm>
              <a:off x="649440" y="4341960"/>
              <a:ext cx="11876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奇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怪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 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5" name="组合 21"/>
          <p:cNvGrpSpPr/>
          <p:nvPr/>
        </p:nvGrpSpPr>
        <p:grpSpPr>
          <a:xfrm>
            <a:off x="2316240" y="3909960"/>
            <a:ext cx="1668240" cy="2158920"/>
            <a:chOff x="2316240" y="3909960"/>
            <a:chExt cx="1668240" cy="2158920"/>
          </a:xfrm>
        </p:grpSpPr>
        <p:pic>
          <p:nvPicPr>
            <p:cNvPr id="646" name="图片 22" descr=""/>
            <p:cNvPicPr/>
            <p:nvPr/>
          </p:nvPicPr>
          <p:blipFill>
            <a:blip r:embed="rId7"/>
            <a:srcRect l="15349" t="13743" r="19417" b="10651"/>
            <a:stretch/>
          </p:blipFill>
          <p:spPr>
            <a:xfrm>
              <a:off x="2316240" y="3909960"/>
              <a:ext cx="16682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矩形 23"/>
            <p:cNvSpPr/>
            <p:nvPr/>
          </p:nvSpPr>
          <p:spPr>
            <a:xfrm>
              <a:off x="2874240" y="4341600"/>
              <a:ext cx="54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治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病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8" name="组合 24"/>
          <p:cNvGrpSpPr/>
          <p:nvPr/>
        </p:nvGrpSpPr>
        <p:grpSpPr>
          <a:xfrm>
            <a:off x="4359240" y="4046400"/>
            <a:ext cx="1668600" cy="2159280"/>
            <a:chOff x="4359240" y="4046400"/>
            <a:chExt cx="1668600" cy="2159280"/>
          </a:xfrm>
        </p:grpSpPr>
        <p:pic>
          <p:nvPicPr>
            <p:cNvPr id="649" name="图片 25" descr=""/>
            <p:cNvPicPr/>
            <p:nvPr/>
          </p:nvPicPr>
          <p:blipFill>
            <a:blip r:embed="rId8"/>
            <a:srcRect l="15349" t="13743" r="19417" b="10651"/>
            <a:stretch/>
          </p:blipFill>
          <p:spPr>
            <a:xfrm>
              <a:off x="4359240" y="4046400"/>
              <a:ext cx="1668600" cy="21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矩形 26"/>
            <p:cNvSpPr/>
            <p:nvPr/>
          </p:nvSpPr>
          <p:spPr>
            <a:xfrm>
              <a:off x="4917600" y="4478040"/>
              <a:ext cx="54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邻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居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图片 3" descr=""/>
          <p:cNvPicPr/>
          <p:nvPr/>
        </p:nvPicPr>
        <p:blipFill>
          <a:blip r:embed="rId1"/>
          <a:stretch/>
        </p:blipFill>
        <p:spPr>
          <a:xfrm>
            <a:off x="1401840" y="3706920"/>
            <a:ext cx="6492960" cy="24876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 txBox="1"/>
          <p:nvPr/>
        </p:nvSpPr>
        <p:spPr>
          <a:xfrm>
            <a:off x="1684440" y="1557360"/>
            <a:ext cx="621648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 fontScale="85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这篇课文讲了个什么故事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"/>
          <p:cNvSpPr/>
          <p:nvPr/>
        </p:nvSpPr>
        <p:spPr>
          <a:xfrm>
            <a:off x="831960" y="2506680"/>
            <a:ext cx="792144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从前，有个人种了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，叶上长了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，他不治，后来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402840" y="1197000"/>
            <a:ext cx="8371080" cy="410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从前，有个人种了一棵葫芦。细长的葫芦藤上长满了绿叶，开出了几朵雪白的小花。花谢以后，藤上挂了几个小葫芦。多么可爱的小葫芦啊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那个人每天都要去看几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"/>
          <p:cNvSpPr/>
          <p:nvPr/>
        </p:nvSpPr>
        <p:spPr>
          <a:xfrm>
            <a:off x="4888080" y="4800600"/>
            <a:ext cx="6379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这棵葫芦一开始长得怎么样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矩形 5"/>
          <p:cNvSpPr/>
          <p:nvPr/>
        </p:nvSpPr>
        <p:spPr>
          <a:xfrm>
            <a:off x="2861280" y="5567400"/>
            <a:ext cx="237528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可爱在哪些地方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31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细长的葫芦藤上长满了绿叶，开出了几朵雪白的小花。花谢以后，藤上挂了几个小葫芦。多么可爱的小葫芦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5"/>
          <p:cNvSpPr/>
          <p:nvPr/>
        </p:nvSpPr>
        <p:spPr>
          <a:xfrm>
            <a:off x="4546440" y="1706400"/>
            <a:ext cx="1289160" cy="57024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椭圆 6"/>
          <p:cNvSpPr/>
          <p:nvPr/>
        </p:nvSpPr>
        <p:spPr>
          <a:xfrm>
            <a:off x="1979640" y="3071880"/>
            <a:ext cx="2376360" cy="56988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椭圆 7"/>
          <p:cNvSpPr/>
          <p:nvPr/>
        </p:nvSpPr>
        <p:spPr>
          <a:xfrm>
            <a:off x="4546440" y="4508640"/>
            <a:ext cx="1289160" cy="57132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内容占位符 3" descr=""/>
          <p:cNvPicPr/>
          <p:nvPr/>
        </p:nvPicPr>
        <p:blipFill>
          <a:blip r:embed="rId1"/>
          <a:stretch/>
        </p:blipFill>
        <p:spPr>
          <a:xfrm>
            <a:off x="442800" y="1052640"/>
            <a:ext cx="8244000" cy="49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41128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15440" y="126828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葫芦藤上长满了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开出了几朵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小花。花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以后，藤上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了几个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多么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小葫芦啊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图片 4" descr=""/>
          <p:cNvPicPr/>
          <p:nvPr/>
        </p:nvPicPr>
        <p:blipFill>
          <a:blip r:embed="rId1"/>
          <a:stretch/>
        </p:blipFill>
        <p:spPr>
          <a:xfrm>
            <a:off x="5284800" y="4098960"/>
            <a:ext cx="3556080" cy="21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132000" y="14130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这棵可爱的葫芦如果继续健健康康地生长，想一想，到最后，它会长成什么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图片 1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80836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684000" y="2133720"/>
            <a:ext cx="7272360" cy="288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没过几天，叶子上的蚜虫更多了。小葫芦慢慢地变黄了，一个一个都落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墨迹 1" descr=""/>
          <p:cNvPicPr/>
          <p:nvPr/>
        </p:nvPicPr>
        <p:blipFill>
          <a:blip r:embed="rId1"/>
          <a:stretch/>
        </p:blipFill>
        <p:spPr>
          <a:xfrm>
            <a:off x="627120" y="3706920"/>
            <a:ext cx="7385040" cy="108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矩形 3"/>
          <p:cNvSpPr/>
          <p:nvPr/>
        </p:nvSpPr>
        <p:spPr>
          <a:xfrm>
            <a:off x="5582160" y="289080"/>
            <a:ext cx="21009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为什么葫芦都落了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0" name="矩形 6"/>
          <p:cNvSpPr/>
          <p:nvPr/>
        </p:nvSpPr>
        <p:spPr>
          <a:xfrm>
            <a:off x="2028960" y="213372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叶子上长了蚜虫他不治；</a:t>
            </a:r>
            <a:br>
              <a:rPr sz="3600"/>
            </a:b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矩形 7"/>
          <p:cNvSpPr/>
          <p:nvPr/>
        </p:nvSpPr>
        <p:spPr>
          <a:xfrm>
            <a:off x="2298600" y="433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邻居劝他他也不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下箭头 8"/>
          <p:cNvSpPr/>
          <p:nvPr/>
        </p:nvSpPr>
        <p:spPr>
          <a:xfrm>
            <a:off x="3780000" y="2924280"/>
            <a:ext cx="1008000" cy="12729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标题 1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第一课时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内容占位符 3" descr=""/>
          <p:cNvPicPr/>
          <p:nvPr/>
        </p:nvPicPr>
        <p:blipFill>
          <a:blip r:embed="rId1"/>
          <a:stretch/>
        </p:blipFill>
        <p:spPr>
          <a:xfrm>
            <a:off x="1015920" y="2289240"/>
            <a:ext cx="3603600" cy="3749760"/>
          </a:xfrm>
          <a:prstGeom prst="rect">
            <a:avLst/>
          </a:prstGeom>
          <a:ln w="0">
            <a:noFill/>
          </a:ln>
        </p:spPr>
      </p:pic>
      <p:sp>
        <p:nvSpPr>
          <p:cNvPr id="674" name="云形 4"/>
          <p:cNvSpPr/>
          <p:nvPr/>
        </p:nvSpPr>
        <p:spPr>
          <a:xfrm>
            <a:off x="4249800" y="1125360"/>
            <a:ext cx="3525840" cy="2514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859" y="13965"/>
                  <a:pt x="3838" y="13551"/>
                  <a:pt x="3838" y="13131"/>
                </a:cubicBezTo>
                <a:cubicBezTo>
                  <a:pt x="3838" y="8056"/>
                  <a:pt x="6861" y="3941"/>
                  <a:pt x="10591" y="3941"/>
                </a:cubicBezTo>
                <a:cubicBezTo>
                  <a:pt x="11837" y="3941"/>
                  <a:pt x="13004" y="4400"/>
                  <a:pt x="14006" y="5201"/>
                </a:cubicBezTo>
                <a:cubicBezTo>
                  <a:pt x="14902" y="2905"/>
                  <a:pt x="16675" y="1343"/>
                  <a:pt x="18716" y="1343"/>
                </a:cubicBezTo>
                <a:cubicBezTo>
                  <a:pt x="20174" y="1343"/>
                  <a:pt x="21494" y="2140"/>
                  <a:pt x="22457" y="3431"/>
                </a:cubicBezTo>
                <a:cubicBezTo>
                  <a:pt x="23173" y="1479"/>
                  <a:pt x="24653" y="140"/>
                  <a:pt x="26363" y="140"/>
                </a:cubicBezTo>
                <a:cubicBezTo>
                  <a:pt x="27778" y="140"/>
                  <a:pt x="29037" y="1058"/>
                  <a:pt x="29834" y="2480"/>
                </a:cubicBezTo>
                <a:cubicBezTo>
                  <a:pt x="30725" y="1054"/>
                  <a:pt x="32054" y="149"/>
                  <a:pt x="33539" y="149"/>
                </a:cubicBezTo>
                <a:cubicBezTo>
                  <a:pt x="35927" y="149"/>
                  <a:pt x="37913" y="2490"/>
                  <a:pt x="38319" y="5572"/>
                </a:cubicBezTo>
                <a:cubicBezTo>
                  <a:pt x="40586" y="6412"/>
                  <a:pt x="42251" y="9236"/>
                  <a:pt x="42251" y="12590"/>
                </a:cubicBezTo>
                <a:cubicBezTo>
                  <a:pt x="42251" y="13609"/>
                  <a:pt x="42097" y="14578"/>
                  <a:pt x="41820" y="15458"/>
                </a:cubicBezTo>
                <a:cubicBezTo>
                  <a:pt x="42699" y="17013"/>
                  <a:pt x="43222" y="18960"/>
                  <a:pt x="43222" y="21074"/>
                </a:cubicBezTo>
                <a:cubicBezTo>
                  <a:pt x="43222" y="25723"/>
                  <a:pt x="40694" y="29568"/>
                  <a:pt x="37409" y="30202"/>
                </a:cubicBezTo>
                <a:cubicBezTo>
                  <a:pt x="37384" y="34518"/>
                  <a:pt x="34803" y="38006"/>
                  <a:pt x="31624" y="38006"/>
                </a:cubicBezTo>
                <a:cubicBezTo>
                  <a:pt x="30499" y="38006"/>
                  <a:pt x="29448" y="37569"/>
                  <a:pt x="28560" y="36813"/>
                </a:cubicBezTo>
                <a:cubicBezTo>
                  <a:pt x="27721" y="40603"/>
                  <a:pt x="25145" y="43358"/>
                  <a:pt x="22098" y="43358"/>
                </a:cubicBezTo>
                <a:cubicBezTo>
                  <a:pt x="19758" y="43358"/>
                  <a:pt x="17696" y="41733"/>
                  <a:pt x="16484" y="39265"/>
                </a:cubicBezTo>
                <a:cubicBezTo>
                  <a:pt x="15323" y="40222"/>
                  <a:pt x="13962" y="40772"/>
                  <a:pt x="12507" y="40772"/>
                </a:cubicBezTo>
                <a:cubicBezTo>
                  <a:pt x="9641" y="40772"/>
                  <a:pt x="7140" y="38639"/>
                  <a:pt x="5808" y="35473"/>
                </a:cubicBezTo>
                <a:cubicBezTo>
                  <a:pt x="5642" y="35499"/>
                  <a:pt x="5472" y="35513"/>
                  <a:pt x="5300" y="35513"/>
                </a:cubicBezTo>
                <a:cubicBezTo>
                  <a:pt x="2892" y="35513"/>
                  <a:pt x="940" y="32863"/>
                  <a:pt x="940" y="29595"/>
                </a:cubicBezTo>
                <a:cubicBezTo>
                  <a:pt x="940" y="28031"/>
                  <a:pt x="1387" y="26609"/>
                  <a:pt x="2117" y="25551"/>
                </a:cubicBezTo>
                <a:cubicBezTo>
                  <a:pt x="831" y="24519"/>
                  <a:pt x="-32" y="22608"/>
                  <a:pt x="-32" y="20421"/>
                </a:cubicBezTo>
                <a:cubicBezTo>
                  <a:pt x="-32" y="17344"/>
                  <a:pt x="1677" y="14813"/>
                  <a:pt x="3866" y="14507"/>
                </a:cubicBezTo>
                <a:lnTo>
                  <a:pt x="3900" y="14370"/>
                </a:lnTo>
                <a:close/>
              </a:path>
              <a:path fill="none" w="43200" h="43200">
                <a:moveTo>
                  <a:pt x="4693" y="26177"/>
                </a:moveTo>
                <a:cubicBezTo>
                  <a:pt x="4582" y="26189"/>
                  <a:pt x="4470" y="26195"/>
                  <a:pt x="4356" y="26195"/>
                </a:cubicBezTo>
                <a:cubicBezTo>
                  <a:pt x="3555" y="26195"/>
                  <a:pt x="2804" y="25898"/>
                  <a:pt x="2160" y="25381"/>
                </a:cubicBezTo>
                <a:moveTo>
                  <a:pt x="6928" y="34899"/>
                </a:moveTo>
                <a:cubicBezTo>
                  <a:pt x="6579" y="35090"/>
                  <a:pt x="6207" y="35220"/>
                  <a:pt x="5821" y="35281"/>
                </a:cubicBezTo>
                <a:moveTo>
                  <a:pt x="16478" y="39090"/>
                </a:moveTo>
                <a:cubicBezTo>
                  <a:pt x="16211" y="38549"/>
                  <a:pt x="15986" y="37967"/>
                  <a:pt x="15809" y="37354"/>
                </a:cubicBezTo>
                <a:moveTo>
                  <a:pt x="28827" y="34751"/>
                </a:moveTo>
                <a:cubicBezTo>
                  <a:pt x="28787" y="35413"/>
                  <a:pt x="28697" y="36052"/>
                  <a:pt x="28562" y="36663"/>
                </a:cubicBezTo>
                <a:moveTo>
                  <a:pt x="34129" y="22954"/>
                </a:moveTo>
                <a:cubicBezTo>
                  <a:pt x="36055" y="24231"/>
                  <a:pt x="37381" y="26919"/>
                  <a:pt x="37381" y="30027"/>
                </a:cubicBezTo>
                <a:cubicBezTo>
                  <a:pt x="37381" y="30048"/>
                  <a:pt x="37381" y="30069"/>
                  <a:pt x="37381" y="30090"/>
                </a:cubicBezTo>
                <a:moveTo>
                  <a:pt x="41798" y="15354"/>
                </a:moveTo>
                <a:cubicBezTo>
                  <a:pt x="41472" y="16395"/>
                  <a:pt x="40973" y="17308"/>
                  <a:pt x="40351" y="18030"/>
                </a:cubicBezTo>
                <a:moveTo>
                  <a:pt x="38324" y="5426"/>
                </a:moveTo>
                <a:cubicBezTo>
                  <a:pt x="38375" y="5804"/>
                  <a:pt x="38401" y="6196"/>
                  <a:pt x="38401" y="6595"/>
                </a:cubicBezTo>
                <a:cubicBezTo>
                  <a:pt x="38401" y="6627"/>
                  <a:pt x="38401" y="6658"/>
                  <a:pt x="38401" y="6690"/>
                </a:cubicBezTo>
                <a:moveTo>
                  <a:pt x="29078" y="3952"/>
                </a:moveTo>
                <a:cubicBezTo>
                  <a:pt x="29268" y="3364"/>
                  <a:pt x="29519" y="2823"/>
                  <a:pt x="29820" y="2341"/>
                </a:cubicBezTo>
                <a:moveTo>
                  <a:pt x="22141" y="4720"/>
                </a:moveTo>
                <a:cubicBezTo>
                  <a:pt x="22218" y="4229"/>
                  <a:pt x="22340" y="3764"/>
                  <a:pt x="22499" y="3329"/>
                </a:cubicBezTo>
                <a:moveTo>
                  <a:pt x="14000" y="5192"/>
                </a:moveTo>
                <a:cubicBezTo>
                  <a:pt x="14474" y="5569"/>
                  <a:pt x="14910" y="6023"/>
                  <a:pt x="15300" y="6540"/>
                </a:cubicBezTo>
                <a:moveTo>
                  <a:pt x="4127" y="15789"/>
                </a:moveTo>
                <a:cubicBezTo>
                  <a:pt x="4024" y="15332"/>
                  <a:pt x="3948" y="14858"/>
                  <a:pt x="3900" y="14375"/>
                </a:cubicBez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716000" y="1862280"/>
            <a:ext cx="2592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有几只虫子怕什么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468360" y="2276280"/>
            <a:ext cx="8074080" cy="273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他盯着小葫芦自言自语地说：“我的小葫芦，快长啊，快长啊！长得赛过大南瓜才好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1186920" y="1628640"/>
            <a:ext cx="7372440" cy="274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那个人感到很奇怪，说：“什么？叶子上的虫还用治？我要的是葫芦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"/>
          <p:cNvSpPr/>
          <p:nvPr/>
        </p:nvSpPr>
        <p:spPr>
          <a:xfrm>
            <a:off x="4317840" y="4581360"/>
            <a:ext cx="2649600" cy="642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他为什么觉得奇怪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826560" y="1483920"/>
            <a:ext cx="7129800" cy="86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cc"/>
                </a:solidFill>
                <a:latin typeface="华文彩云"/>
                <a:ea typeface="华文彩云"/>
              </a:rPr>
              <a:t>他可能会说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内容占位符 2"/>
          <p:cNvSpPr/>
          <p:nvPr/>
        </p:nvSpPr>
        <p:spPr>
          <a:xfrm>
            <a:off x="1332000" y="2708280"/>
            <a:ext cx="6335640" cy="273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种葫芦的人看到小葫芦一个一个都落了，可能会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地说：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___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3"/>
          <p:cNvSpPr/>
          <p:nvPr/>
        </p:nvSpPr>
        <p:spPr>
          <a:xfrm>
            <a:off x="755640" y="177336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你现在知道葫芦落了的原因了吗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2" name="矩形 2"/>
          <p:cNvSpPr/>
          <p:nvPr/>
        </p:nvSpPr>
        <p:spPr>
          <a:xfrm>
            <a:off x="3091320" y="3429000"/>
            <a:ext cx="237528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因为……所以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……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矩形 3"/>
          <p:cNvSpPr/>
          <p:nvPr/>
        </p:nvSpPr>
        <p:spPr>
          <a:xfrm>
            <a:off x="792000" y="1201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我们以后在生活中做事情应该要怎么样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4" name="矩形 2"/>
          <p:cNvSpPr/>
          <p:nvPr/>
        </p:nvSpPr>
        <p:spPr>
          <a:xfrm>
            <a:off x="1116000" y="3141720"/>
            <a:ext cx="7201080" cy="807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多听听别人的劝告，注意不要只看事物的表面现象，只注重结果，要从现象看事物间的联系，重视过程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图片 1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86" name="矩形 2"/>
          <p:cNvSpPr/>
          <p:nvPr/>
        </p:nvSpPr>
        <p:spPr>
          <a:xfrm>
            <a:off x="3060000" y="225432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再见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4"/>
          <p:cNvSpPr/>
          <p:nvPr/>
        </p:nvSpPr>
        <p:spPr>
          <a:xfrm>
            <a:off x="5703120" y="331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cccff"/>
                </a:solidFill>
                <a:uFillTx/>
                <a:latin typeface="华文彩云"/>
                <a:ea typeface="华文彩云"/>
              </a:rPr>
              <a:t>猜猜我是谁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539640" y="119376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说我是丝瓜，我比它圆；说我是梨子，我比它大。我中间细，两头圆。小的时候，我可以做成一道美味；年老时，我可以用来做药和装酒，还能吹出动听的乐曲！猜猜我是谁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1" name="组合 2"/>
          <p:cNvGrpSpPr/>
          <p:nvPr/>
        </p:nvGrpSpPr>
        <p:grpSpPr>
          <a:xfrm>
            <a:off x="5562360" y="4437000"/>
            <a:ext cx="3299040" cy="1871640"/>
            <a:chOff x="5562360" y="4437000"/>
            <a:chExt cx="3299040" cy="1871640"/>
          </a:xfrm>
        </p:grpSpPr>
        <p:pic>
          <p:nvPicPr>
            <p:cNvPr id="512" name="图片 1" descr=""/>
            <p:cNvPicPr/>
            <p:nvPr/>
          </p:nvPicPr>
          <p:blipFill>
            <a:blip r:embed="rId1"/>
            <a:stretch/>
          </p:blipFill>
          <p:spPr>
            <a:xfrm>
              <a:off x="5977080" y="4437000"/>
              <a:ext cx="28843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矩形 5"/>
            <p:cNvSpPr/>
            <p:nvPr/>
          </p:nvSpPr>
          <p:spPr>
            <a:xfrm>
              <a:off x="5562360" y="4587480"/>
              <a:ext cx="546480" cy="155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2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葫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芦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4"/>
          <p:cNvSpPr/>
          <p:nvPr/>
        </p:nvSpPr>
        <p:spPr>
          <a:xfrm>
            <a:off x="5566680" y="26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cccff"/>
                </a:solidFill>
                <a:uFillTx/>
                <a:latin typeface="华文彩云"/>
                <a:ea typeface="华文彩云"/>
              </a:rPr>
              <a:t>阅读提示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矩形 3"/>
          <p:cNvSpPr/>
          <p:nvPr/>
        </p:nvSpPr>
        <p:spPr>
          <a:xfrm>
            <a:off x="611280" y="126828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由朗读课文并完成下列任务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可以看拼音，或者请教老师和同学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;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准每一个字的字音，圈出生字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通每个句子，读不通顺的多读几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给每个自然段写上序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图片 1" descr=""/>
          <p:cNvPicPr/>
          <p:nvPr/>
        </p:nvPicPr>
        <p:blipFill>
          <a:blip r:embed="rId1"/>
          <a:stretch/>
        </p:blipFill>
        <p:spPr>
          <a:xfrm>
            <a:off x="4859280" y="3213000"/>
            <a:ext cx="3936960" cy="29527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xi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xi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ǎ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ɡ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ī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ɡ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棵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想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盯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邻    治    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3"/>
          <p:cNvSpPr/>
          <p:nvPr/>
        </p:nvSpPr>
        <p:spPr>
          <a:xfrm>
            <a:off x="3564000" y="3429000"/>
            <a:ext cx="1295280" cy="72072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611280" y="2422080"/>
            <a:ext cx="80755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楷体"/>
                <a:ea typeface="楷体"/>
              </a:rPr>
              <a:t>葫芦藤  蚜虫  花谢   盯着 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楷体"/>
                <a:ea typeface="楷体"/>
              </a:rPr>
              <a:t>赛过    感到  奇怪   慢慢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7" descr="t016776e8f4052c6342.gif"/>
          <p:cNvPicPr/>
          <p:nvPr/>
        </p:nvPicPr>
        <p:blipFill>
          <a:blip r:embed="rId1"/>
          <a:stretch/>
        </p:blipFill>
        <p:spPr>
          <a:xfrm>
            <a:off x="374760" y="3792600"/>
            <a:ext cx="1962000" cy="1960560"/>
          </a:xfrm>
          <a:prstGeom prst="rect">
            <a:avLst/>
          </a:prstGeom>
          <a:ln w="0">
            <a:noFill/>
          </a:ln>
        </p:spPr>
      </p:pic>
      <p:sp>
        <p:nvSpPr>
          <p:cNvPr id="521" name="矩形 8"/>
          <p:cNvSpPr/>
          <p:nvPr/>
        </p:nvSpPr>
        <p:spPr>
          <a:xfrm>
            <a:off x="5846040" y="555480"/>
            <a:ext cx="152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写字有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2" name="Group 29"/>
          <p:cNvGrpSpPr/>
          <p:nvPr/>
        </p:nvGrpSpPr>
        <p:grpSpPr>
          <a:xfrm>
            <a:off x="739800" y="1859040"/>
            <a:ext cx="1503360" cy="1360440"/>
            <a:chOff x="739800" y="1859040"/>
            <a:chExt cx="1503360" cy="1360440"/>
          </a:xfrm>
        </p:grpSpPr>
        <p:sp>
          <p:nvSpPr>
            <p:cNvPr id="523" name="Rectangle 30"/>
            <p:cNvSpPr/>
            <p:nvPr/>
          </p:nvSpPr>
          <p:spPr>
            <a:xfrm>
              <a:off x="14914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7398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14914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7398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Line 34"/>
            <p:cNvSpPr/>
            <p:nvPr/>
          </p:nvSpPr>
          <p:spPr>
            <a:xfrm>
              <a:off x="7398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8" name="Line 35"/>
            <p:cNvSpPr/>
            <p:nvPr/>
          </p:nvSpPr>
          <p:spPr>
            <a:xfrm>
              <a:off x="7398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9" name="Line 36"/>
            <p:cNvSpPr/>
            <p:nvPr/>
          </p:nvSpPr>
          <p:spPr>
            <a:xfrm>
              <a:off x="7398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0" name="Line 37"/>
            <p:cNvSpPr/>
            <p:nvPr/>
          </p:nvSpPr>
          <p:spPr>
            <a:xfrm>
              <a:off x="7398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1" name="Line 38"/>
            <p:cNvSpPr/>
            <p:nvPr/>
          </p:nvSpPr>
          <p:spPr>
            <a:xfrm>
              <a:off x="14914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2" name="Line 39"/>
            <p:cNvSpPr/>
            <p:nvPr/>
          </p:nvSpPr>
          <p:spPr>
            <a:xfrm>
              <a:off x="2243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33" name="Text Box 40"/>
          <p:cNvSpPr/>
          <p:nvPr/>
        </p:nvSpPr>
        <p:spPr>
          <a:xfrm>
            <a:off x="80496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棵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4" name="Group 29"/>
          <p:cNvGrpSpPr/>
          <p:nvPr/>
        </p:nvGrpSpPr>
        <p:grpSpPr>
          <a:xfrm>
            <a:off x="2297160" y="1859040"/>
            <a:ext cx="1504800" cy="1360440"/>
            <a:chOff x="2297160" y="1859040"/>
            <a:chExt cx="1504800" cy="1360440"/>
          </a:xfrm>
        </p:grpSpPr>
        <p:sp>
          <p:nvSpPr>
            <p:cNvPr id="535" name="Rectangle 30"/>
            <p:cNvSpPr/>
            <p:nvPr/>
          </p:nvSpPr>
          <p:spPr>
            <a:xfrm>
              <a:off x="3049560" y="253368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Rectangle 31"/>
            <p:cNvSpPr/>
            <p:nvPr/>
          </p:nvSpPr>
          <p:spPr>
            <a:xfrm>
              <a:off x="2297160" y="253368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7" name="Rectangle 32"/>
            <p:cNvSpPr/>
            <p:nvPr/>
          </p:nvSpPr>
          <p:spPr>
            <a:xfrm>
              <a:off x="3049560" y="185904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Rectangle 33"/>
            <p:cNvSpPr/>
            <p:nvPr/>
          </p:nvSpPr>
          <p:spPr>
            <a:xfrm>
              <a:off x="2297160" y="185904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Line 34"/>
            <p:cNvSpPr/>
            <p:nvPr/>
          </p:nvSpPr>
          <p:spPr>
            <a:xfrm>
              <a:off x="2297160" y="185904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Line 35"/>
            <p:cNvSpPr/>
            <p:nvPr/>
          </p:nvSpPr>
          <p:spPr>
            <a:xfrm>
              <a:off x="2297160" y="253368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Line 36"/>
            <p:cNvSpPr/>
            <p:nvPr/>
          </p:nvSpPr>
          <p:spPr>
            <a:xfrm>
              <a:off x="2297160" y="321948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2" name="Line 37"/>
            <p:cNvSpPr/>
            <p:nvPr/>
          </p:nvSpPr>
          <p:spPr>
            <a:xfrm>
              <a:off x="2297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Line 38"/>
            <p:cNvSpPr/>
            <p:nvPr/>
          </p:nvSpPr>
          <p:spPr>
            <a:xfrm>
              <a:off x="304956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38019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5" name="Text Box 40"/>
          <p:cNvSpPr/>
          <p:nvPr/>
        </p:nvSpPr>
        <p:spPr>
          <a:xfrm>
            <a:off x="236232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谢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6" name="Group 29"/>
          <p:cNvGrpSpPr/>
          <p:nvPr/>
        </p:nvGrpSpPr>
        <p:grpSpPr>
          <a:xfrm>
            <a:off x="3852720" y="1859040"/>
            <a:ext cx="1503360" cy="1360440"/>
            <a:chOff x="3852720" y="1859040"/>
            <a:chExt cx="1503360" cy="1360440"/>
          </a:xfrm>
        </p:grpSpPr>
        <p:sp>
          <p:nvSpPr>
            <p:cNvPr id="547" name="Rectangle 30"/>
            <p:cNvSpPr/>
            <p:nvPr/>
          </p:nvSpPr>
          <p:spPr>
            <a:xfrm>
              <a:off x="460440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Rectangle 31"/>
            <p:cNvSpPr/>
            <p:nvPr/>
          </p:nvSpPr>
          <p:spPr>
            <a:xfrm>
              <a:off x="385272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9" name="Rectangle 32"/>
            <p:cNvSpPr/>
            <p:nvPr/>
          </p:nvSpPr>
          <p:spPr>
            <a:xfrm>
              <a:off x="460440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0" name="Rectangle 33"/>
            <p:cNvSpPr/>
            <p:nvPr/>
          </p:nvSpPr>
          <p:spPr>
            <a:xfrm>
              <a:off x="385272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1" name="Line 34"/>
            <p:cNvSpPr/>
            <p:nvPr/>
          </p:nvSpPr>
          <p:spPr>
            <a:xfrm>
              <a:off x="385272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85272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3" name="Line 36"/>
            <p:cNvSpPr/>
            <p:nvPr/>
          </p:nvSpPr>
          <p:spPr>
            <a:xfrm>
              <a:off x="385272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4" name="Line 37"/>
            <p:cNvSpPr/>
            <p:nvPr/>
          </p:nvSpPr>
          <p:spPr>
            <a:xfrm>
              <a:off x="385272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5" name="Line 38"/>
            <p:cNvSpPr/>
            <p:nvPr/>
          </p:nvSpPr>
          <p:spPr>
            <a:xfrm>
              <a:off x="460440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Line 39"/>
            <p:cNvSpPr/>
            <p:nvPr/>
          </p:nvSpPr>
          <p:spPr>
            <a:xfrm>
              <a:off x="535608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7" name="Text Box 40"/>
          <p:cNvSpPr/>
          <p:nvPr/>
        </p:nvSpPr>
        <p:spPr>
          <a:xfrm>
            <a:off x="3916440" y="174960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想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8" name="Group 29"/>
          <p:cNvGrpSpPr/>
          <p:nvPr/>
        </p:nvGrpSpPr>
        <p:grpSpPr>
          <a:xfrm>
            <a:off x="5432400" y="1859040"/>
            <a:ext cx="1503360" cy="1360440"/>
            <a:chOff x="5432400" y="1859040"/>
            <a:chExt cx="1503360" cy="1360440"/>
          </a:xfrm>
        </p:grpSpPr>
        <p:sp>
          <p:nvSpPr>
            <p:cNvPr id="559" name="Rectangle 30"/>
            <p:cNvSpPr/>
            <p:nvPr/>
          </p:nvSpPr>
          <p:spPr>
            <a:xfrm>
              <a:off x="61840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Rectangle 31"/>
            <p:cNvSpPr/>
            <p:nvPr/>
          </p:nvSpPr>
          <p:spPr>
            <a:xfrm>
              <a:off x="54324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>
              <a:off x="61840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2" name="Rectangle 33"/>
            <p:cNvSpPr/>
            <p:nvPr/>
          </p:nvSpPr>
          <p:spPr>
            <a:xfrm>
              <a:off x="54324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Line 34"/>
            <p:cNvSpPr/>
            <p:nvPr/>
          </p:nvSpPr>
          <p:spPr>
            <a:xfrm>
              <a:off x="54324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4" name="Line 35"/>
            <p:cNvSpPr/>
            <p:nvPr/>
          </p:nvSpPr>
          <p:spPr>
            <a:xfrm>
              <a:off x="54324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Line 36"/>
            <p:cNvSpPr/>
            <p:nvPr/>
          </p:nvSpPr>
          <p:spPr>
            <a:xfrm>
              <a:off x="54324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6" name="Line 37"/>
            <p:cNvSpPr/>
            <p:nvPr/>
          </p:nvSpPr>
          <p:spPr>
            <a:xfrm>
              <a:off x="54324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7" name="Line 38"/>
            <p:cNvSpPr/>
            <p:nvPr/>
          </p:nvSpPr>
          <p:spPr>
            <a:xfrm>
              <a:off x="61840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69357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9" name="Text Box 40"/>
          <p:cNvSpPr/>
          <p:nvPr/>
        </p:nvSpPr>
        <p:spPr>
          <a:xfrm>
            <a:off x="5495760" y="174960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盯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0" name="Group 29"/>
          <p:cNvGrpSpPr/>
          <p:nvPr/>
        </p:nvGrpSpPr>
        <p:grpSpPr>
          <a:xfrm>
            <a:off x="7012080" y="1855800"/>
            <a:ext cx="1503360" cy="1359000"/>
            <a:chOff x="7012080" y="1855800"/>
            <a:chExt cx="1503360" cy="1359000"/>
          </a:xfrm>
        </p:grpSpPr>
        <p:sp>
          <p:nvSpPr>
            <p:cNvPr id="571" name="Rectangle 30"/>
            <p:cNvSpPr/>
            <p:nvPr/>
          </p:nvSpPr>
          <p:spPr>
            <a:xfrm>
              <a:off x="7763760" y="252972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2" name="Rectangle 31"/>
            <p:cNvSpPr/>
            <p:nvPr/>
          </p:nvSpPr>
          <p:spPr>
            <a:xfrm>
              <a:off x="7012080" y="252972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Rectangle 32"/>
            <p:cNvSpPr/>
            <p:nvPr/>
          </p:nvSpPr>
          <p:spPr>
            <a:xfrm>
              <a:off x="7763760" y="185580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4" name="Rectangle 33"/>
            <p:cNvSpPr/>
            <p:nvPr/>
          </p:nvSpPr>
          <p:spPr>
            <a:xfrm>
              <a:off x="7012080" y="185580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5" name="Line 34"/>
            <p:cNvSpPr/>
            <p:nvPr/>
          </p:nvSpPr>
          <p:spPr>
            <a:xfrm>
              <a:off x="7012080" y="1855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6" name="Line 35"/>
            <p:cNvSpPr/>
            <p:nvPr/>
          </p:nvSpPr>
          <p:spPr>
            <a:xfrm>
              <a:off x="7012080" y="252972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7" name="Line 36"/>
            <p:cNvSpPr/>
            <p:nvPr/>
          </p:nvSpPr>
          <p:spPr>
            <a:xfrm>
              <a:off x="7012080" y="3214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8" name="Line 37"/>
            <p:cNvSpPr/>
            <p:nvPr/>
          </p:nvSpPr>
          <p:spPr>
            <a:xfrm>
              <a:off x="701208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9" name="Line 38"/>
            <p:cNvSpPr/>
            <p:nvPr/>
          </p:nvSpPr>
          <p:spPr>
            <a:xfrm>
              <a:off x="7763760" y="18558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0" name="Line 39"/>
            <p:cNvSpPr/>
            <p:nvPr/>
          </p:nvSpPr>
          <p:spPr>
            <a:xfrm>
              <a:off x="851544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1" name="Text Box 40"/>
          <p:cNvSpPr/>
          <p:nvPr/>
        </p:nvSpPr>
        <p:spPr>
          <a:xfrm>
            <a:off x="7075440" y="174456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言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2" name="Group 29"/>
          <p:cNvGrpSpPr/>
          <p:nvPr/>
        </p:nvGrpSpPr>
        <p:grpSpPr>
          <a:xfrm>
            <a:off x="2297160" y="3759120"/>
            <a:ext cx="1504800" cy="1360440"/>
            <a:chOff x="2297160" y="3759120"/>
            <a:chExt cx="1504800" cy="1360440"/>
          </a:xfrm>
        </p:grpSpPr>
        <p:sp>
          <p:nvSpPr>
            <p:cNvPr id="583" name="Rectangle 30"/>
            <p:cNvSpPr/>
            <p:nvPr/>
          </p:nvSpPr>
          <p:spPr>
            <a:xfrm>
              <a:off x="3049560" y="443376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Rectangle 31"/>
            <p:cNvSpPr/>
            <p:nvPr/>
          </p:nvSpPr>
          <p:spPr>
            <a:xfrm>
              <a:off x="2297160" y="443376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Rectangle 32"/>
            <p:cNvSpPr/>
            <p:nvPr/>
          </p:nvSpPr>
          <p:spPr>
            <a:xfrm>
              <a:off x="3049560" y="375912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6" name="Rectangle 33"/>
            <p:cNvSpPr/>
            <p:nvPr/>
          </p:nvSpPr>
          <p:spPr>
            <a:xfrm>
              <a:off x="2297160" y="375912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7" name="Line 34"/>
            <p:cNvSpPr/>
            <p:nvPr/>
          </p:nvSpPr>
          <p:spPr>
            <a:xfrm>
              <a:off x="2297160" y="375912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8" name="Line 35"/>
            <p:cNvSpPr/>
            <p:nvPr/>
          </p:nvSpPr>
          <p:spPr>
            <a:xfrm>
              <a:off x="2297160" y="443376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9" name="Line 36"/>
            <p:cNvSpPr/>
            <p:nvPr/>
          </p:nvSpPr>
          <p:spPr>
            <a:xfrm>
              <a:off x="2297160" y="511956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0" name="Line 37"/>
            <p:cNvSpPr/>
            <p:nvPr/>
          </p:nvSpPr>
          <p:spPr>
            <a:xfrm>
              <a:off x="22971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1" name="Line 38"/>
            <p:cNvSpPr/>
            <p:nvPr/>
          </p:nvSpPr>
          <p:spPr>
            <a:xfrm>
              <a:off x="304956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2" name="Line 39"/>
            <p:cNvSpPr/>
            <p:nvPr/>
          </p:nvSpPr>
          <p:spPr>
            <a:xfrm>
              <a:off x="38019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3" name="Text Box 40"/>
          <p:cNvSpPr/>
          <p:nvPr/>
        </p:nvSpPr>
        <p:spPr>
          <a:xfrm>
            <a:off x="2362320" y="364968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邻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4" name="Group 29"/>
          <p:cNvGrpSpPr/>
          <p:nvPr/>
        </p:nvGrpSpPr>
        <p:grpSpPr>
          <a:xfrm>
            <a:off x="3852720" y="3759120"/>
            <a:ext cx="1503360" cy="1360440"/>
            <a:chOff x="3852720" y="3759120"/>
            <a:chExt cx="1503360" cy="1360440"/>
          </a:xfrm>
        </p:grpSpPr>
        <p:sp>
          <p:nvSpPr>
            <p:cNvPr id="595" name="Rectangle 30"/>
            <p:cNvSpPr/>
            <p:nvPr/>
          </p:nvSpPr>
          <p:spPr>
            <a:xfrm>
              <a:off x="460440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Rectangle 31"/>
            <p:cNvSpPr/>
            <p:nvPr/>
          </p:nvSpPr>
          <p:spPr>
            <a:xfrm>
              <a:off x="385272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7" name="Rectangle 32"/>
            <p:cNvSpPr/>
            <p:nvPr/>
          </p:nvSpPr>
          <p:spPr>
            <a:xfrm>
              <a:off x="460440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Rectangle 33"/>
            <p:cNvSpPr/>
            <p:nvPr/>
          </p:nvSpPr>
          <p:spPr>
            <a:xfrm>
              <a:off x="385272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9" name="Line 34"/>
            <p:cNvSpPr/>
            <p:nvPr/>
          </p:nvSpPr>
          <p:spPr>
            <a:xfrm>
              <a:off x="385272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0" name="Line 35"/>
            <p:cNvSpPr/>
            <p:nvPr/>
          </p:nvSpPr>
          <p:spPr>
            <a:xfrm>
              <a:off x="385272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Line 36"/>
            <p:cNvSpPr/>
            <p:nvPr/>
          </p:nvSpPr>
          <p:spPr>
            <a:xfrm>
              <a:off x="385272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2" name="Line 37"/>
            <p:cNvSpPr/>
            <p:nvPr/>
          </p:nvSpPr>
          <p:spPr>
            <a:xfrm>
              <a:off x="385272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3" name="Line 38"/>
            <p:cNvSpPr/>
            <p:nvPr/>
          </p:nvSpPr>
          <p:spPr>
            <a:xfrm>
              <a:off x="460440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4" name="Line 39"/>
            <p:cNvSpPr/>
            <p:nvPr/>
          </p:nvSpPr>
          <p:spPr>
            <a:xfrm>
              <a:off x="535608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5" name="Text Box 40"/>
          <p:cNvSpPr/>
          <p:nvPr/>
        </p:nvSpPr>
        <p:spPr>
          <a:xfrm>
            <a:off x="3916440" y="364968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治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6" name="Group 29"/>
          <p:cNvGrpSpPr/>
          <p:nvPr/>
        </p:nvGrpSpPr>
        <p:grpSpPr>
          <a:xfrm>
            <a:off x="5432400" y="3759120"/>
            <a:ext cx="1503360" cy="1360440"/>
            <a:chOff x="5432400" y="3759120"/>
            <a:chExt cx="1503360" cy="1360440"/>
          </a:xfrm>
        </p:grpSpPr>
        <p:sp>
          <p:nvSpPr>
            <p:cNvPr id="607" name="Rectangle 30"/>
            <p:cNvSpPr/>
            <p:nvPr/>
          </p:nvSpPr>
          <p:spPr>
            <a:xfrm>
              <a:off x="618408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8" name="Rectangle 31"/>
            <p:cNvSpPr/>
            <p:nvPr/>
          </p:nvSpPr>
          <p:spPr>
            <a:xfrm>
              <a:off x="543240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Rectangle 32"/>
            <p:cNvSpPr/>
            <p:nvPr/>
          </p:nvSpPr>
          <p:spPr>
            <a:xfrm>
              <a:off x="618408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Rectangle 33"/>
            <p:cNvSpPr/>
            <p:nvPr/>
          </p:nvSpPr>
          <p:spPr>
            <a:xfrm>
              <a:off x="543240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Line 34"/>
            <p:cNvSpPr/>
            <p:nvPr/>
          </p:nvSpPr>
          <p:spPr>
            <a:xfrm>
              <a:off x="543240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Line 35"/>
            <p:cNvSpPr/>
            <p:nvPr/>
          </p:nvSpPr>
          <p:spPr>
            <a:xfrm>
              <a:off x="543240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3" name="Line 36"/>
            <p:cNvSpPr/>
            <p:nvPr/>
          </p:nvSpPr>
          <p:spPr>
            <a:xfrm>
              <a:off x="543240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4" name="Line 37"/>
            <p:cNvSpPr/>
            <p:nvPr/>
          </p:nvSpPr>
          <p:spPr>
            <a:xfrm>
              <a:off x="543240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5" name="Line 38"/>
            <p:cNvSpPr/>
            <p:nvPr/>
          </p:nvSpPr>
          <p:spPr>
            <a:xfrm>
              <a:off x="618408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6" name="Line 39"/>
            <p:cNvSpPr/>
            <p:nvPr/>
          </p:nvSpPr>
          <p:spPr>
            <a:xfrm>
              <a:off x="69357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7" name="Text Box 40"/>
          <p:cNvSpPr/>
          <p:nvPr/>
        </p:nvSpPr>
        <p:spPr>
          <a:xfrm>
            <a:off x="5495760" y="364968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怪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椭圆 1"/>
          <p:cNvSpPr/>
          <p:nvPr/>
        </p:nvSpPr>
        <p:spPr>
          <a:xfrm>
            <a:off x="4067280" y="2644920"/>
            <a:ext cx="1288800" cy="56988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椭圆 100"/>
          <p:cNvSpPr/>
          <p:nvPr/>
        </p:nvSpPr>
        <p:spPr>
          <a:xfrm>
            <a:off x="2852640" y="1930320"/>
            <a:ext cx="424080" cy="128448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椭圆 101"/>
          <p:cNvSpPr/>
          <p:nvPr/>
        </p:nvSpPr>
        <p:spPr>
          <a:xfrm>
            <a:off x="7183440" y="2232000"/>
            <a:ext cx="1287360" cy="25416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43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800" spc="-1" strike="noStrike">
                <a:solidFill>
                  <a:srgbClr val="ccccff"/>
                </a:solidFill>
                <a:latin typeface="华文彩云"/>
                <a:ea typeface="华文彩云"/>
              </a:rPr>
              <a:t>注意哦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71280" y="2566800"/>
            <a:ext cx="749916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看准每个字在田字格里的位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看清每个字的结构，放慢速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严格按笔顺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6:00Z</dcterms:created>
  <dc:creator/>
  <dc:description/>
  <dc:language>en-US</dc:language>
  <cp:lastModifiedBy>万润仪器贸易公司</cp:lastModifiedBy>
  <dcterms:modified xsi:type="dcterms:W3CDTF">2020-08-19T01:44:24Z</dcterms:modified>
  <cp:revision>4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